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E97-A284-445C-8DFB-6151875B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68E-6919-4C9C-8EAA-315A332F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893-7A83-4F66-867D-BDF990D0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C3C-D70C-428D-9681-48E23AA3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A99-D7EB-4866-9A9C-230E666A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A23-2A83-4BE9-8764-008C479C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84C-C41A-414B-9842-6553BF0F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38F-A073-444F-9D6E-6789FAE3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F9AD-08D3-4A25-8C83-CBDAE4B1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FC0-8841-4886-BCF3-603902A2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15C2-5168-459D-87BB-8060DE39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4B8-CD38-48A9-9F71-3D5DB2A6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1745-48FF-4475-B7F5-8B9B414FA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96720"/>
            <a:ext cx="8991720" cy="616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421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9996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81040"/>
            <a:ext cx="883908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7:58:29Z</dcterms:created>
  <dc:creator>MKrakowski</dc:creator>
  <dc:description/>
  <dc:language>en-US</dc:language>
  <cp:lastModifiedBy>MKrakowski</cp:lastModifiedBy>
  <dcterms:modified xsi:type="dcterms:W3CDTF">2011-09-21T18:15:14Z</dcterms:modified>
  <cp:revision>1</cp:revision>
  <dc:subject/>
  <dc:title>Slide 1</dc:title>
</cp:coreProperties>
</file>